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7CD6-CA29-4186-BD7C-FE537A1B55B4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F7FD-2C63-427C-A1FA-4762B6215459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447D-3B90-43E5-BE92-257B3726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856-4211-4BDB-99F4-C03FF544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5C3-3D61-499A-AEF1-CBD18B8F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D24-677D-4155-BFAC-9303B5DC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5A57-A0F0-41CC-9937-D01E13DE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5199-561D-42E6-A462-41B7298A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D6D3-383A-461C-860D-EE01CB0A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46CD-DAFE-4CE3-B91F-39FA351D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F0B0-F735-44E5-9699-FBC44B45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DF1E-7BB2-426C-98F5-8BF72E3F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6A89-389D-4847-AF73-C77127CA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B0C-0569-4A8A-967F-DCCA815A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40FF-9074-453A-9FFD-25821BF5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FCB3-A829-4352-860E-322617F2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7428-09F6-4603-A5F3-C9E88F17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6288-15A5-4425-A6FA-F7EEF866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800B-32E7-4C15-8ACD-395D0210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E925-970D-4392-BB45-0968E73A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DFA26-D0B4-47CA-94A9-4449987D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C000F-F1D1-4EDD-977F-81FB6C59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200F9-C8D0-43A2-96DF-C6012458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56231-0A87-4F42-BC1D-6F708382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202-9D6F-450B-B7A2-E30E2616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E008D-F98D-4BF9-B9B8-14DC57E5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D0FF6-262D-464E-BED0-52E32626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911DF-A268-44A7-88C4-7C087149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D111-9300-4D8B-893C-0825AE4E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ADE24-83EC-4382-B698-3E6F2329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9A84-F344-494F-A100-A42B1649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D1A62-C342-412C-AAB6-E527EF06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B7D-B1EA-46A3-BC2D-F914060F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62C-F2C1-4ACC-9324-05F15514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04A-5BBB-4F39-B5A8-4F201840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47E-96BF-4318-BD57-0C0AABAE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F9D-E380-4F48-A36A-1833A684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4B3-3C09-43FA-9D60-C8275D40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8003-D413-482C-BAC1-32F705C4A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7A07-4890-4CE0-B081-F5C0966218C6}" type="slidenum">
              <a:rPr b="0" lang="ru-RU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8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8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8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4836-781C-455A-BC3F-05D1577C6525}" type="slidenum">
              <a:rPr b="0" lang="ru-RU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0" y="333360"/>
            <a:ext cx="4788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«Развитие воображения  младших школьник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а уроках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математики и во внеурочной деятельности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MP900446588[1]"/>
          <p:cNvPicPr/>
          <p:nvPr/>
        </p:nvPicPr>
        <p:blipFill>
          <a:blip r:embed="rId1"/>
          <a:stretch/>
        </p:blipFill>
        <p:spPr>
          <a:xfrm>
            <a:off x="4859280" y="1052640"/>
            <a:ext cx="381636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80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ссоздание образов по схеме, карте, другим видам символического изобра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6227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...Ещё в детстве у меня появилось пристрастие к географическим картам. Я мог сидеть над ними по нескольку часов, как над увлекательной книг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изучал течения неведомых рек, прихотливые морские побережья, проникал в глубину тайги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епенно все эти места оживали в моём воображении с такой ясностью, что, кажется, я мог бы написать вымышленные путевые дневники по разным материкам и странам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Пауст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514600" cy="350064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Чтение чертеж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смотри внимательно на развёртку изделия. Подумай, что из неё получ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5195880" y="2147760"/>
            <a:ext cx="294336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5" name="AutoShape 8"/>
          <p:cNvSpPr/>
          <p:nvPr/>
        </p:nvSpPr>
        <p:spPr>
          <a:xfrm>
            <a:off x="7885080" y="6237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>
            <a:hlinkClick r:id="rId2" action="ppaction://hlinksldjump"/>
          </p:cNvPr>
          <p:cNvSpPr/>
          <p:nvPr/>
        </p:nvSpPr>
        <p:spPr>
          <a:xfrm>
            <a:off x="7885080" y="6093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fff7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Развитие творческого                   вооб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330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орческое во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амостоятельное создание новых образов, которые реализуются в оригинальных продуктах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MP900446582[1]"/>
          <p:cNvPicPr/>
          <p:nvPr/>
        </p:nvPicPr>
        <p:blipFill>
          <a:blip r:embed="rId1"/>
          <a:stretch/>
        </p:blipFill>
        <p:spPr>
          <a:xfrm>
            <a:off x="4915080" y="1600200"/>
            <a:ext cx="3504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«Незаконченные фигур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rcRect l="1333" t="1104" r="2666" b="2208"/>
          <a:stretch/>
        </p:blipFill>
        <p:spPr>
          <a:xfrm>
            <a:off x="395280" y="1844640"/>
            <a:ext cx="2505240" cy="302436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pic>
        <p:nvPicPr>
          <p:cNvPr id="192" name="Picture 4" descr=""/>
          <p:cNvPicPr/>
          <p:nvPr/>
        </p:nvPicPr>
        <p:blipFill>
          <a:blip r:embed="rId2"/>
          <a:srcRect l="0" t="0" r="1564" b="0"/>
          <a:stretch/>
        </p:blipFill>
        <p:spPr>
          <a:xfrm>
            <a:off x="6227640" y="1844640"/>
            <a:ext cx="2597400" cy="324000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pic>
        <p:nvPicPr>
          <p:cNvPr id="193" name="Picture 4" descr=""/>
          <p:cNvPicPr/>
          <p:nvPr/>
        </p:nvPicPr>
        <p:blipFill>
          <a:blip r:embed="rId3"/>
          <a:srcRect l="0" t="0" r="6447" b="1992"/>
          <a:stretch/>
        </p:blipFill>
        <p:spPr>
          <a:xfrm>
            <a:off x="3276720" y="2997360"/>
            <a:ext cx="2649240" cy="342900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571320"/>
            <a:ext cx="822960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жнение: «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ий дикта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упраж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а игры должны быть простыми, точно сформулирован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 должен быть посилен для всех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инать нужно с простых упражнений и постепенно переходить к более сложным упражнени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д выполнением проводится четкий инструктаж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диктовке нужно делать достаточно длительные паузы, чтобы дети успевали кончить предыдущую ли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5" descr="http://premier-st.com/images/stories/graphic-dictation/002.gif"/>
          <p:cNvPicPr/>
          <p:nvPr/>
        </p:nvPicPr>
        <p:blipFill>
          <a:blip r:embed="rId1"/>
          <a:stretch/>
        </p:blipFill>
        <p:spPr>
          <a:xfrm>
            <a:off x="5143680" y="3786120"/>
            <a:ext cx="246348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Плоские геометрические фигур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жнен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Геометрический рисуно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упражн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тям предлагается нарисовать что-либо, используя исключительно геометрические фигуры. Можно устроить «конкурс»  или «фестиваль» рисунков: ситуация соперничества будет способствовать активации воображения и творческого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ые примеры рисун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1116000" y="5003640"/>
            <a:ext cx="1943280" cy="185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6300720" y="4221000"/>
            <a:ext cx="195588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Число и цифра 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жнен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На что похожа цифра 0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упражн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ебятам предлагается пофантазировать, на что похожа цифра 0 (или что похоже на цифру 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ианты ответов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букву О, на контур лица, на ягоду винограда, на овал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785520"/>
            <a:ext cx="822960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Четырехугольники и прямоугольни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жне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Дорису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упражн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никам предлагается дорисовать фигуры дополнительными деталями так, чтобы получились разные предм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имульный матери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643040" y="5214960"/>
            <a:ext cx="5651640" cy="1130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075520" cy="27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адачи и загад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жнен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Составление загадо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упражнения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ям предлагается придумать загадки по сх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857160" y="3214800"/>
          <a:ext cx="7777080" cy="266364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57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форме как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лое, как колес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о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цвету как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ое, как лимон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о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характеру (содержанию) как…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ркое, как лампоч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о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о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611280" y="3500280"/>
            <a:ext cx="7848360" cy="792360"/>
          </a:xfrm>
          <a:prstGeom prst="rect">
            <a:avLst/>
          </a:prstGeom>
          <a:solidFill>
            <a:srgbClr val="ffffd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«Всё творчески – иначе зачем?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075520" cy="537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ображение! Без этого качества нельзя быт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поэтом, ни философом, ни умным человеком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мыслящим существом, ни просто человеком... Воображение — это способность вызывать образы. Человек, начисто лишённый этой способност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бы тупицей»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Дени Дидро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Цел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педагогов со способами развития воссоздающего и творческого воображения младших 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Что такое воображ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ображени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рисущая только человеку возможность создания новых образов (представлений) путём переработки предшествующего опы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ая его 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едставление ожидаемого результата до его осущест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02800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>
            <a:hlinkClick r:id="rId1" action="ppaction://hlinksldjump"/>
          </p:cNvPr>
          <p:cNvSpPr/>
          <p:nvPr/>
        </p:nvSpPr>
        <p:spPr>
          <a:xfrm>
            <a:off x="7236000" y="5877000"/>
            <a:ext cx="1265040" cy="630000"/>
          </a:xfrm>
          <a:prstGeom prst="leftArrow">
            <a:avLst>
              <a:gd name="adj1" fmla="val 50000"/>
              <a:gd name="adj2" fmla="val 502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>
            <a:hlinkClick r:id="rId2" action="ppaction://hlinksldjump"/>
          </p:cNvPr>
          <p:cNvSpPr/>
          <p:nvPr/>
        </p:nvSpPr>
        <p:spPr>
          <a:xfrm>
            <a:off x="7308720" y="6093000"/>
            <a:ext cx="1224000" cy="485640"/>
          </a:xfrm>
          <a:prstGeom prst="leftArrow">
            <a:avLst>
              <a:gd name="adj1" fmla="val 50000"/>
              <a:gd name="adj2" fmla="val 63010"/>
            </a:avLst>
          </a:prstGeom>
          <a:solidFill>
            <a:srgbClr val="fffff7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Функции вооб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ие действительности в образах и возможность пользоваться ими, решая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ование эмоциональных  состоя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льная  регуляция  познавательных  процессов  и  состояний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 внутреннего  плана 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и программирование   деятельност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7667640" y="6237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7956720" y="6093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>
            <a:hlinkClick r:id="rId1" action="ppaction://hlinksldjump"/>
          </p:cNvPr>
          <p:cNvSpPr/>
          <p:nvPr/>
        </p:nvSpPr>
        <p:spPr>
          <a:xfrm>
            <a:off x="7524720" y="6165720"/>
            <a:ext cx="1224000" cy="486000"/>
          </a:xfrm>
          <a:prstGeom prst="leftArrow">
            <a:avLst>
              <a:gd name="adj1" fmla="val 50000"/>
              <a:gd name="adj2" fmla="val 62963"/>
            </a:avLst>
          </a:prstGeom>
          <a:solidFill>
            <a:srgbClr val="fffff7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Organization Chart 8"/>
          <p:cNvGrpSpPr/>
          <p:nvPr/>
        </p:nvGrpSpPr>
        <p:grpSpPr>
          <a:xfrm>
            <a:off x="431640" y="239760"/>
            <a:ext cx="8208360" cy="5831280"/>
            <a:chOff x="431640" y="239760"/>
            <a:chExt cx="8208360" cy="5831280"/>
          </a:xfrm>
        </p:grpSpPr>
        <p:cxnSp>
          <p:nvCxnSpPr>
            <p:cNvPr id="156" name="_s1028"/>
            <p:cNvCxnSpPr>
              <a:stCxn id="157" idx="0"/>
              <a:endCxn id="158" idx="2"/>
            </p:cNvCxnSpPr>
            <p:nvPr/>
          </p:nvCxnSpPr>
          <p:spPr>
            <a:xfrm flipV="1" rot="16200000">
              <a:off x="5926680" y="3377160"/>
              <a:ext cx="699480" cy="1742040"/>
            </a:xfrm>
            <a:prstGeom prst="bentConnector3">
              <a:avLst>
                <a:gd name="adj1" fmla="val 1627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" name="_s1029"/>
            <p:cNvCxnSpPr>
              <a:stCxn id="160" idx="0"/>
              <a:endCxn id="158" idx="2"/>
            </p:cNvCxnSpPr>
            <p:nvPr/>
          </p:nvCxnSpPr>
          <p:spPr>
            <a:xfrm flipH="1" flipV="1" rot="5400000">
              <a:off x="4186080" y="3377520"/>
              <a:ext cx="699480" cy="1741320"/>
            </a:xfrm>
            <a:prstGeom prst="bentConnector3">
              <a:avLst>
                <a:gd name="adj1" fmla="val 1627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0"/>
            <p:cNvCxnSpPr>
              <a:stCxn id="158" idx="0"/>
              <a:endCxn id="162" idx="2"/>
            </p:cNvCxnSpPr>
            <p:nvPr/>
          </p:nvCxnSpPr>
          <p:spPr>
            <a:xfrm flipV="1" rot="16200000">
              <a:off x="4185720" y="1190880"/>
              <a:ext cx="699480" cy="1741320"/>
            </a:xfrm>
            <a:prstGeom prst="bentConnector3">
              <a:avLst>
                <a:gd name="adj1" fmla="val 1632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1031"/>
            <p:cNvCxnSpPr>
              <a:stCxn id="164" idx="0"/>
              <a:endCxn id="162" idx="2"/>
            </p:cNvCxnSpPr>
            <p:nvPr/>
          </p:nvCxnSpPr>
          <p:spPr>
            <a:xfrm flipH="1" flipV="1" rot="5400000">
              <a:off x="2444760" y="1190520"/>
              <a:ext cx="699480" cy="1742040"/>
            </a:xfrm>
            <a:prstGeom prst="bentConnector3">
              <a:avLst>
                <a:gd name="adj1" fmla="val 16323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_s1032"/>
            <p:cNvSpPr/>
            <p:nvPr/>
          </p:nvSpPr>
          <p:spPr>
            <a:xfrm>
              <a:off x="2172960" y="239760"/>
              <a:ext cx="2984760" cy="1457640"/>
            </a:xfrm>
            <a:prstGeom prst="bracketPair">
              <a:avLst>
                <a:gd name="adj" fmla="val 0"/>
              </a:avLst>
            </a:prstGeom>
            <a:solidFill>
              <a:srgbClr val="ff990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Виды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воображени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33"/>
            <p:cNvSpPr/>
            <p:nvPr/>
          </p:nvSpPr>
          <p:spPr>
            <a:xfrm>
              <a:off x="431640" y="2426400"/>
              <a:ext cx="2984760" cy="1457640"/>
            </a:xfrm>
            <a:prstGeom prst="bracketPair">
              <a:avLst>
                <a:gd name="adj" fmla="val 0"/>
              </a:avLst>
            </a:prstGeom>
            <a:solidFill>
              <a:srgbClr val="33cccc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Непроизвольное 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(пассивное)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34"/>
            <p:cNvSpPr/>
            <p:nvPr/>
          </p:nvSpPr>
          <p:spPr>
            <a:xfrm>
              <a:off x="3913920" y="2426400"/>
              <a:ext cx="2984760" cy="1457640"/>
            </a:xfrm>
            <a:prstGeom prst="bracketPair">
              <a:avLst>
                <a:gd name="adj" fmla="val 0"/>
              </a:avLst>
            </a:prstGeom>
            <a:solidFill>
              <a:srgbClr val="33cccc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Произвольное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(активное)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5"/>
            <p:cNvSpPr/>
            <p:nvPr/>
          </p:nvSpPr>
          <p:spPr>
            <a:xfrm>
              <a:off x="2172960" y="4613400"/>
              <a:ext cx="2984760" cy="1457640"/>
            </a:xfrm>
            <a:prstGeom prst="bracketPair">
              <a:avLst>
                <a:gd name="adj" fmla="val 0"/>
              </a:avLst>
            </a:prstGeom>
            <a:solidFill>
              <a:srgbClr val="ff505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Воссоздающее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(репродуктивное)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6"/>
            <p:cNvSpPr/>
            <p:nvPr/>
          </p:nvSpPr>
          <p:spPr>
            <a:xfrm>
              <a:off x="5655240" y="4613400"/>
              <a:ext cx="2984760" cy="1457640"/>
            </a:xfrm>
            <a:prstGeom prst="bracketPair">
              <a:avLst>
                <a:gd name="adj" fmla="val 0"/>
              </a:avLst>
            </a:prstGeom>
            <a:solidFill>
              <a:srgbClr val="ff5050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Творческое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AutoShape 15">
            <a:hlinkClick r:id="rId1" action="ppaction://hlinksldjump"/>
          </p:cNvPr>
          <p:cNvSpPr/>
          <p:nvPr/>
        </p:nvSpPr>
        <p:spPr>
          <a:xfrm>
            <a:off x="7812000" y="6237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fff7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Развитие воссоздающего                    вооб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4535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создающее (репродуктивное) во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остроение образа предмета, явления в соответствии с его словесным описанием или по чертежу, схеме, карт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MP900446589[2]"/>
          <p:cNvPicPr/>
          <p:nvPr/>
        </p:nvPicPr>
        <p:blipFill>
          <a:blip r:embed="rId1"/>
          <a:stretch/>
        </p:blipFill>
        <p:spPr>
          <a:xfrm>
            <a:off x="4919760" y="1989000"/>
            <a:ext cx="34956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оздание образа целого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 его части, детал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е «Составь фигуру из элементо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ы-головолом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0" r="0" b="66754"/>
          <a:stretch/>
        </p:blipFill>
        <p:spPr>
          <a:xfrm>
            <a:off x="900000" y="2565360"/>
            <a:ext cx="4033800" cy="187164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Игры - головолом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520720" cy="25210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174" name="Picture 4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2363760" cy="2376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3564000" y="1557360"/>
            <a:ext cx="2100240" cy="3240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611280" y="4365720"/>
            <a:ext cx="1944720" cy="459720"/>
          </a:xfrm>
          <a:prstGeom prst="rect">
            <a:avLst/>
          </a:prstGeom>
          <a:solidFill>
            <a:srgbClr val="fffff7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гр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843280" y="5445000"/>
            <a:ext cx="3641760" cy="459720"/>
          </a:xfrm>
          <a:prstGeom prst="rect">
            <a:avLst/>
          </a:prstGeom>
          <a:solidFill>
            <a:srgbClr val="fffff7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умбово яйц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993640" y="4245120"/>
            <a:ext cx="2925720" cy="901800"/>
          </a:xfrm>
          <a:prstGeom prst="rect">
            <a:avLst/>
          </a:prstGeom>
          <a:solidFill>
            <a:srgbClr val="fffff7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ьетнамска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1:45:25Z</dcterms:created>
  <dc:creator>Света</dc:creator>
  <dc:description/>
  <dc:language>en-US</dc:language>
  <cp:lastModifiedBy>user</cp:lastModifiedBy>
  <dcterms:modified xsi:type="dcterms:W3CDTF">2015-03-03T13:12:57Z</dcterms:modified>
  <cp:revision>364</cp:revision>
  <dc:subject/>
  <dc:title>Развитие воображения  младших школьников на уроках и во внеурочной деятельности</dc:title>
</cp:coreProperties>
</file>