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C5187-3CB4-4DAC-98E0-E6E2BBDAAD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E360-CCC4-4DFC-9587-76FAF91EFBB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DA011-578C-4E97-A84B-579AD216157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D08D0-BBAA-4CAF-A948-ABEDE813FE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CE942-75D5-4565-8416-D1514E5C7C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3DD0-989E-4DA2-99F2-F18772D9FB8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397A5-A105-496A-AB00-6009862DA1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10EA-C79B-4D99-B938-B73A7CB3F6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3578E-33C9-4F2A-B87C-382993B057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E9313-C02B-4971-BEE6-FE910979EA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5724-B3C8-454B-B707-54121ABB2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352C-8B36-4577-8B05-EB2ADA3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F2CD-FD61-4FD9-9711-A12B1D1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35B8-899E-41F5-8419-42245F5D5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35800-6422-44C4-A088-91F7482C3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6ADC9-AE5E-4AF0-9E35-F45203E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2259A-3E90-404F-9A4B-FBD25C6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95741-7E14-4CD2-A2A5-F7082D1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1A475-A70A-4DB7-B76D-65CDE3E2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2E814-F3AC-48D2-84AA-3F2DAB5E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77178-D682-426A-AF6A-CF65972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6E09-E17C-45EC-847A-1327F76D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CCC85-572B-4F7B-B1FF-90BB6E4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ACE4D-1892-43F6-8EC8-FAE6ED7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91895-CB88-481A-BE1D-D94C513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CF355-8FAA-49CF-8019-6ED41595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1AC8E-18F8-4FE5-9601-35C2BEA40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74F-26A6-45F0-ADAB-6566AD2F5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D9EC-EF8A-483B-9E32-4D3D443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0E2B-D72A-44C1-9552-9B04F81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877-4340-4062-B163-1C0DB415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1E8D-2023-4ACD-8976-BC7CE83C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ACF9-D79D-472D-A240-AEAFB36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7E7B-1493-4C6E-9C7A-73594A8F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2A6D-4238-4740-BDA1-5B768B0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1E5-94D3-4A89-94DD-8CC74A7D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31CF-EF00-472E-95EE-B205D139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1699-FEA4-4B0A-8837-2D49FD0D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C955-AB52-4BA0-83BD-E2AE00E1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AFC-9AFD-4046-BF41-38B1CA4F1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47CEE-6B58-4C3D-A279-4C67E55663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7BB74-9776-4548-8010-BEDB861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BC69B-DEB8-49F5-888A-D76BB17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E367-4EEE-4F68-94A9-FD7FDCD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F3DA7-B5FB-4A3C-BB88-8238665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D7853-AD9C-42BB-A52A-E0B71429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26BCC-4552-42F7-BDD4-EFFDF74A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E0A77-67A1-4DC8-8E4E-54258F0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F35C0-67C8-4B8D-98CB-DF3D6200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D2410-1D7D-4363-94F2-26928772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107D8-D368-437C-8C02-B2FA96A2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64B18-FF1D-455F-B006-72C5ED3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DA576-7842-4EE2-B8F5-B094B6FDF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B66C2-2FE0-48D9-BF9F-B6FD659AC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8443-676F-472D-A81F-572C6E30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37915-FD7B-432E-AE40-9FC5B04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8F73B-7492-43BA-8CCE-580E633D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CE268-A746-4DCF-A728-06055367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4F3C2-4199-4A61-82D9-C0BF5A10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4EAFF-70F5-4B7D-B125-BB174B79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25D0F-4D7D-4436-8B55-5BC4074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AC235-33D6-40BA-B293-9785CA78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B1859-D775-4048-9A03-84CAEA54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791DF-90F3-4EC2-B0A8-BA46C0EE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9B771-3B32-46F3-8DED-2979A5F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F989-F9F5-4725-8F60-321A7661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1BF22-222A-4B3D-B164-1755294579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2842-CC29-4D24-8E61-1656543D2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C55B-A268-442F-9007-15E3DCA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1267-3054-4F2D-82ED-FF763EB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3939-AAF1-4DCD-A129-2A6B722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F71B-AA79-4577-BDE7-97E27A76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AA95-16E2-4E25-A831-8F17B91B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1212-74FD-4157-B2CC-6F566B2F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515B-EF73-40A6-B408-08460540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4EAB-2D56-44D3-B021-D68CC61A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7D1B-F5EB-4F2F-BBD4-5E6C33AF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F017-D619-499A-ABBD-BE1B793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DAB6-3013-4842-9CCD-3A5DB9B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B421-EFDC-4AA0-89BF-3629E315A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FCC5-040E-4383-9F5A-A3DD554F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5047-2A94-4DAB-A24D-26D5B76F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9ad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304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914400" y="64134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8610480" y="6413040"/>
            <a:ext cx="45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225728-52FF-41E9-90EE-449C90961B3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9ad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8751E2-52E3-45DB-95D7-A5907D4BA437}" type="slidenum">
              <a: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9ad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cap="sq" w="324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cap="sq" w="324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 rot="5220000">
            <a:off x="4464360" y="1483200"/>
            <a:ext cx="4114800" cy="1189080"/>
          </a:xfrm>
          <a:prstGeom prst="pie">
            <a:avLst/>
          </a:pr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8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DC66CE-05B1-4E8E-AFBB-1F41D089F549}" type="slidenum">
              <a: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9ad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77261B-81A4-4733-8356-AE1EBB16CE7E}" type="slidenum">
              <a: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9ad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9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0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3CD4AD-50DD-48CF-B560-BCCCEC3D145B}" type="slidenum">
              <a: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9ad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1"/>
          <p:cNvSpPr/>
          <p:nvPr/>
        </p:nvSpPr>
        <p:spPr>
          <a:xfrm>
            <a:off x="363600" y="1884240"/>
            <a:ext cx="8781840" cy="180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2"/>
          <p:cNvGrpSpPr/>
          <p:nvPr/>
        </p:nvGrpSpPr>
        <p:grpSpPr>
          <a:xfrm>
            <a:off x="8516880" y="1217520"/>
            <a:ext cx="127080" cy="129960"/>
            <a:chOff x="8516880" y="1217520"/>
            <a:chExt cx="127080" cy="129960"/>
          </a:xfrm>
        </p:grpSpPr>
        <p:sp>
          <p:nvSpPr>
            <p:cNvPr id="275" name="Line 13"/>
            <p:cNvSpPr/>
            <p:nvPr/>
          </p:nvSpPr>
          <p:spPr>
            <a:xfrm>
              <a:off x="8574120" y="1217520"/>
              <a:ext cx="69840" cy="63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8516880" y="128196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 flipV="1">
              <a:off x="8574120" y="1280520"/>
              <a:ext cx="6984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16"/>
          <p:cNvGrpSpPr/>
          <p:nvPr/>
        </p:nvGrpSpPr>
        <p:grpSpPr>
          <a:xfrm>
            <a:off x="8669160" y="1370160"/>
            <a:ext cx="127080" cy="129240"/>
            <a:chOff x="8669160" y="1370160"/>
            <a:chExt cx="127080" cy="129240"/>
          </a:xfrm>
        </p:grpSpPr>
        <p:sp>
          <p:nvSpPr>
            <p:cNvPr id="279" name="Line 17"/>
            <p:cNvSpPr/>
            <p:nvPr/>
          </p:nvSpPr>
          <p:spPr>
            <a:xfrm>
              <a:off x="8726400" y="1370160"/>
              <a:ext cx="69840" cy="622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8669160" y="1433880"/>
              <a:ext cx="100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 flipV="1">
              <a:off x="8726400" y="1432080"/>
              <a:ext cx="69840" cy="673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Group 20"/>
          <p:cNvGrpSpPr/>
          <p:nvPr/>
        </p:nvGrpSpPr>
        <p:grpSpPr>
          <a:xfrm>
            <a:off x="8321760" y="1473120"/>
            <a:ext cx="127080" cy="129960"/>
            <a:chOff x="8321760" y="1473120"/>
            <a:chExt cx="127080" cy="129960"/>
          </a:xfrm>
        </p:grpSpPr>
        <p:sp>
          <p:nvSpPr>
            <p:cNvPr id="283" name="Line 21"/>
            <p:cNvSpPr/>
            <p:nvPr/>
          </p:nvSpPr>
          <p:spPr>
            <a:xfrm>
              <a:off x="8379000" y="1473120"/>
              <a:ext cx="69840" cy="63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8321760" y="153756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8379000" y="1536120"/>
              <a:ext cx="6984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1"/>
          </p:nvPr>
        </p:nvSpPr>
        <p:spPr>
          <a:xfrm>
            <a:off x="6477120" y="5400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7"/>
          <p:cNvSpPr/>
          <p:nvPr/>
        </p:nvSpPr>
        <p:spPr>
          <a:xfrm>
            <a:off x="914400" y="5400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2"/>
          </p:nvPr>
        </p:nvSpPr>
        <p:spPr>
          <a:xfrm>
            <a:off x="8610480" y="5400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166276-6B07-4D71-910B-E337D3140155}" type="slidenum">
              <a:rPr b="0" lang="ru-RU" sz="12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1"/>
          <p:cNvGrpSpPr/>
          <p:nvPr/>
        </p:nvGrpSpPr>
        <p:grpSpPr>
          <a:xfrm>
            <a:off x="682560" y="4237200"/>
            <a:ext cx="8008920" cy="2089080"/>
            <a:chOff x="682560" y="4237200"/>
            <a:chExt cx="8008920" cy="2089080"/>
          </a:xfrm>
        </p:grpSpPr>
        <p:pic>
          <p:nvPicPr>
            <p:cNvPr id="336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4237200"/>
              <a:ext cx="800892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3"/>
            <p:cNvSpPr/>
            <p:nvPr/>
          </p:nvSpPr>
          <p:spPr>
            <a:xfrm>
              <a:off x="682560" y="4237200"/>
              <a:ext cx="80089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Text Box 4"/>
          <p:cNvSpPr/>
          <p:nvPr/>
        </p:nvSpPr>
        <p:spPr>
          <a:xfrm>
            <a:off x="914400" y="2835360"/>
            <a:ext cx="77724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            </a:t>
            </a: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Овощ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78588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Артиш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льра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атис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4929120" y="1643040"/>
            <a:ext cx="223848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2643120" y="250020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647720" cy="142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4"/>
          <a:stretch/>
        </p:blipFill>
        <p:spPr>
          <a:xfrm>
            <a:off x="5572080" y="3500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А это фрук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285840" y="1500120"/>
            <a:ext cx="88581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ейхо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римойя                                                              Папай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ушм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42892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6429240" y="3643200"/>
            <a:ext cx="2086200" cy="142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6072120" y="785880"/>
            <a:ext cx="2295720" cy="142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4"/>
          <a:stretch/>
        </p:blipFill>
        <p:spPr>
          <a:xfrm>
            <a:off x="2500200" y="2071800"/>
            <a:ext cx="205740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2428920" y="12859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onsolas"/>
              </a:rPr>
              <a:t>Полюбуйтесь на ягод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92880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арба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ор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ино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6786720" y="785880"/>
            <a:ext cx="2199960" cy="2143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4143240" y="450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4"/>
          <a:stretch/>
        </p:blipFill>
        <p:spPr>
          <a:xfrm>
            <a:off x="3071880" y="2643120"/>
            <a:ext cx="1533600" cy="142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5"/>
          <a:stretch/>
        </p:blipFill>
        <p:spPr>
          <a:xfrm>
            <a:off x="1143000" y="4357800"/>
            <a:ext cx="1547640" cy="2322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6"/>
          <a:stretch/>
        </p:blipFill>
        <p:spPr>
          <a:xfrm>
            <a:off x="5643720" y="2500200"/>
            <a:ext cx="15141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6500880" y="1071720"/>
            <a:ext cx="2143080" cy="14284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"/>
          <p:cNvSpPr/>
          <p:nvPr/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onsolas"/>
              </a:rPr>
              <a:t>                  </a:t>
            </a:r>
            <a:r>
              <a:rPr b="0" lang="ru-RU" sz="3200" spc="-1" strike="noStrike">
                <a:solidFill>
                  <a:srgbClr val="ccffff"/>
                </a:solidFill>
                <a:latin typeface="Consolas"/>
              </a:rPr>
              <a:t>Круп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че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ш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р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3500280" y="50007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2571840" y="21420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4"/>
          <a:stretch/>
        </p:blipFill>
        <p:spPr>
          <a:xfrm>
            <a:off x="1785960" y="1928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4071960" y="3071880"/>
            <a:ext cx="2371680" cy="1428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"/>
          <p:cNvPicPr/>
          <p:nvPr/>
        </p:nvPicPr>
        <p:blipFill>
          <a:blip r:embed="rId6"/>
          <a:stretch/>
        </p:blipFill>
        <p:spPr>
          <a:xfrm>
            <a:off x="7000920" y="2357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onsolas"/>
              </a:rPr>
              <a:t>Гри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морч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олнушка                                        Скри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ж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714680" y="33577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3500280" y="857160"/>
            <a:ext cx="1528920" cy="2143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3"/>
          <a:stretch/>
        </p:blipFill>
        <p:spPr>
          <a:xfrm>
            <a:off x="6072120" y="157176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4"/>
          <a:stretch/>
        </p:blipFill>
        <p:spPr>
          <a:xfrm>
            <a:off x="5572080" y="4429080"/>
            <a:ext cx="21528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А здесь напит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Мор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Кумы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Ква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Ряжен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072120" y="4714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6715080" y="3500280"/>
            <a:ext cx="2257560" cy="142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4"/>
          <a:stretch/>
        </p:blipFill>
        <p:spPr>
          <a:xfrm>
            <a:off x="642960" y="121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5"/>
          <a:stretch/>
        </p:blipFill>
        <p:spPr>
          <a:xfrm>
            <a:off x="3643200" y="22860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6"/>
          <a:stretch/>
        </p:blipFill>
        <p:spPr>
          <a:xfrm>
            <a:off x="5429160" y="0"/>
            <a:ext cx="23050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Ловись, рыбк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Быч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Кар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Стерляд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214280" y="4500720"/>
            <a:ext cx="2737080" cy="1857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2"/>
          <a:stretch/>
        </p:blipFill>
        <p:spPr>
          <a:xfrm>
            <a:off x="4500720" y="2643120"/>
            <a:ext cx="2247840" cy="142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3"/>
          <a:stretch/>
        </p:blipFill>
        <p:spPr>
          <a:xfrm>
            <a:off x="6357960" y="71424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4"/>
          <a:stretch/>
        </p:blipFill>
        <p:spPr>
          <a:xfrm>
            <a:off x="1357200" y="1357200"/>
            <a:ext cx="2419560" cy="15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Consolas"/>
              </a:rPr>
              <a:t>  </a:t>
            </a:r>
            <a:r>
              <a:rPr b="0" lang="ru-RU" sz="4800" spc="-1" strike="noStrike">
                <a:solidFill>
                  <a:srgbClr val="ccffff"/>
                </a:solidFill>
                <a:latin typeface="Consola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914400" y="1784520"/>
            <a:ext cx="77724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Будьте здоровы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 приятного аппетита!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2857680" y="1857240"/>
            <a:ext cx="3738240" cy="280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0:25:45Z</dcterms:created>
  <dc:creator>К216А-10</dc:creator>
  <dc:description/>
  <dc:language>en-US</dc:language>
  <cp:lastModifiedBy>GEG</cp:lastModifiedBy>
  <dcterms:modified xsi:type="dcterms:W3CDTF">2013-11-21T11:07:49Z</dcterms:modified>
  <cp:revision>49</cp:revision>
  <dc:subject/>
  <dc:title>Проект Дружба и дружелюбие</dc:title>
</cp:coreProperties>
</file>