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E83B-8747-40E3-95BF-911098BD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1B1-37EF-4A03-82DE-4A34164A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01EE-B573-4B9F-9A14-AA0B8F51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1D17-9985-4EE5-B423-8F64D366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756-17B3-4F00-9D1F-90E74244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361A-EC64-4F7D-8F43-126728D5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56BF-7D54-4493-B8AF-50F4EA34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1D0A-C4BC-4428-8C0E-C0C01BEC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0ACF-441F-4AE3-9CB5-2BEDBF86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B035-17AE-4E0D-B92A-4BFB7AFB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A8C9-52F4-44C4-93F7-C81675FF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FC3A-2DB9-495E-A4FA-11896E76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6155-A759-47BE-A4F3-09B4DD8A32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olkslovar.ru/n4170.html" TargetMode="External"/><Relationship Id="rId2" Type="http://schemas.openxmlformats.org/officeDocument/2006/relationships/hyperlink" Target="http://tolkslovar.ru/r4710.html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116000" y="13968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ahoma"/>
              </a:rPr>
              <a:t>С малой удачи начинается большой успе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урок2"/>
          <p:cNvPicPr/>
          <p:nvPr/>
        </p:nvPicPr>
        <p:blipFill>
          <a:blip r:embed="rId1"/>
          <a:stretch/>
        </p:blipFill>
        <p:spPr>
          <a:xfrm>
            <a:off x="2771640" y="2060640"/>
            <a:ext cx="34624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.ронила   в.рона в.р.нён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:\Users\Admin\Desktop\i.jpg"/>
          <p:cNvPicPr/>
          <p:nvPr/>
        </p:nvPicPr>
        <p:blipFill>
          <a:blip r:embed="rId1"/>
          <a:stretch/>
        </p:blipFill>
        <p:spPr>
          <a:xfrm>
            <a:off x="3648240" y="3147840"/>
            <a:ext cx="54957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760" y="285480"/>
            <a:ext cx="814392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Глас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а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уда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Соглас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он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ух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гки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да мягкие щ,ч,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ёрд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да твёрдые ж,ш,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:\Users\Admin\Desktop\e4656ca7e308.jpg"/>
          <p:cNvPicPr/>
          <p:nvPr/>
        </p:nvPicPr>
        <p:blipFill>
          <a:blip r:embed="rId1"/>
          <a:stretch/>
        </p:blipFill>
        <p:spPr>
          <a:xfrm>
            <a:off x="5214960" y="2071800"/>
            <a:ext cx="3929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20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2000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Запишите слова в порядке данных схем (</a:t>
            </a: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работа в парах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.Лев, бесконечный, прекис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й, кино, кленов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Лев, кино, прекислый, кленовый, бескон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Кино, лев, прекислый, кленовый, бескон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Кино, лев, бесконечный, прекислый, клен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гадайте что это за сл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ставка, как в слове перех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ень как в слове лес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ффикс, как в слове дым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нчание, как в слове дожд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1"/>
              </a:rPr>
              <a:t>Небольш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с, отделенный полянами от других лесных участков, или </a:t>
            </a:r>
            <a:r>
              <a:rPr b="0" lang="ru-RU" sz="28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2"/>
              </a:rPr>
              <a:t>редк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с, соединяющий лесные массивы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Admin\Desktop\D4EEF2EEE3F0E0F4E8FF20DDF1F2EEEDE8E82E20CFF0E8E1F0E5E6EDFBE920EFE5F0E5EBE5F1EEEA.jpg"/>
          <p:cNvPicPr/>
          <p:nvPr/>
        </p:nvPicPr>
        <p:blipFill>
          <a:blip r:embed="rId3"/>
          <a:stretch/>
        </p:blipFill>
        <p:spPr>
          <a:xfrm>
            <a:off x="642960" y="2286000"/>
            <a:ext cx="81439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таким же способом загадать одноклассника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микгрогруппа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группа- сахар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группа-подлоко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группа-задви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группа- житель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 группа-малин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 группа- дождли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группа- вишнё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Impact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Impact"/>
              </a:rPr>
              <a:t>Я узна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Impact"/>
              </a:rPr>
              <a:t>Я поня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Impact"/>
              </a:rPr>
              <a:t>Мне было интерес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Impact"/>
              </a:rPr>
              <a:t>Мне было труд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owl"/>
          <p:cNvPicPr/>
          <p:nvPr/>
        </p:nvPicPr>
        <p:blipFill>
          <a:blip r:embed="rId1"/>
          <a:stretch/>
        </p:blipFill>
        <p:spPr>
          <a:xfrm>
            <a:off x="5867280" y="2060640"/>
            <a:ext cx="2952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3357720"/>
            <a:ext cx="8229600" cy="32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.Солоухин писал, что у человека всё предназначено для самого себя: глаза  - чтобы смотреть и находить, рот – чтобы поглощать пищу. Всё нужно самому себе, кроме улыбки. Улыбка самому себе не нужна, она предназначена другим людям, чтобы им с вами было хорош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Солоухин"/>
          <p:cNvPicPr/>
          <p:nvPr/>
        </p:nvPicPr>
        <p:blipFill>
          <a:blip r:embed="rId1"/>
          <a:stretch/>
        </p:blipFill>
        <p:spPr>
          <a:xfrm>
            <a:off x="2987640" y="189000"/>
            <a:ext cx="2895480" cy="3124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Улыбка2"/>
          <p:cNvPicPr/>
          <p:nvPr/>
        </p:nvPicPr>
        <p:blipFill>
          <a:blip r:embed="rId2"/>
          <a:stretch/>
        </p:blipFill>
        <p:spPr>
          <a:xfrm>
            <a:off x="250920" y="476280"/>
            <a:ext cx="2192400" cy="2192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Улыбка3"/>
          <p:cNvPicPr/>
          <p:nvPr/>
        </p:nvPicPr>
        <p:blipFill>
          <a:blip r:embed="rId3"/>
          <a:stretch/>
        </p:blipFill>
        <p:spPr>
          <a:xfrm>
            <a:off x="6372360" y="476280"/>
            <a:ext cx="2376360" cy="210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Impact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Impact"/>
              </a:rPr>
              <a:t>Учеб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Impact"/>
              </a:rPr>
              <a:t>Страница 1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Impact"/>
              </a:rPr>
              <a:t>Упражнение №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boy"/>
          <p:cNvPicPr/>
          <p:nvPr/>
        </p:nvPicPr>
        <p:blipFill>
          <a:blip r:embed="rId1"/>
          <a:stretch/>
        </p:blipFill>
        <p:spPr>
          <a:xfrm>
            <a:off x="4572000" y="1700280"/>
            <a:ext cx="410688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000" y="2133720"/>
            <a:ext cx="7924680" cy="13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Дерево ценят по плодам, а человека по его дел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6"/>
          <p:cNvPicPr/>
          <p:nvPr/>
        </p:nvPicPr>
        <p:blipFill>
          <a:blip r:embed="rId1"/>
          <a:stretch/>
        </p:blipFill>
        <p:spPr>
          <a:xfrm>
            <a:off x="611280" y="189000"/>
            <a:ext cx="2012760" cy="1863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5"/>
          <p:cNvPicPr/>
          <p:nvPr/>
        </p:nvPicPr>
        <p:blipFill>
          <a:blip r:embed="rId2"/>
          <a:stretch/>
        </p:blipFill>
        <p:spPr>
          <a:xfrm>
            <a:off x="5724360" y="3500280"/>
            <a:ext cx="280512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У п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сьма  св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и  с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крет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500720" y="1710720"/>
            <a:ext cx="259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стар.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п.хо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н.вин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заварн.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сам.лет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5"/>
          <p:cNvGrpSpPr/>
          <p:nvPr/>
        </p:nvGrpSpPr>
        <p:grpSpPr>
          <a:xfrm>
            <a:off x="611280" y="1989000"/>
            <a:ext cx="2518560" cy="3686040"/>
            <a:chOff x="611280" y="1989000"/>
            <a:chExt cx="2518560" cy="3686040"/>
          </a:xfrm>
        </p:grpSpPr>
        <p:pic>
          <p:nvPicPr>
            <p:cNvPr id="46" name="Picture 6" descr="professor4"/>
            <p:cNvPicPr/>
            <p:nvPr/>
          </p:nvPicPr>
          <p:blipFill>
            <a:blip r:embed="rId1"/>
            <a:stretch/>
          </p:blipFill>
          <p:spPr>
            <a:xfrm>
              <a:off x="611280" y="2493360"/>
              <a:ext cx="2387160" cy="318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WordArt 7"/>
            <p:cNvSpPr txBox="1"/>
            <p:nvPr/>
          </p:nvSpPr>
          <p:spPr>
            <a:xfrm>
              <a:off x="838440" y="1989000"/>
              <a:ext cx="2291400" cy="682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одумай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8" name="Rectangle 8"/>
          <p:cNvSpPr/>
          <p:nvPr/>
        </p:nvSpPr>
        <p:spPr>
          <a:xfrm flipH="1">
            <a:off x="2050200" y="2781360"/>
            <a:ext cx="71640" cy="7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kniga10"/>
          <p:cNvPicPr/>
          <p:nvPr/>
        </p:nvPicPr>
        <p:blipFill>
          <a:blip r:embed="rId1"/>
          <a:stretch/>
        </p:blipFill>
        <p:spPr>
          <a:xfrm>
            <a:off x="2916360" y="333360"/>
            <a:ext cx="3100320" cy="3141720"/>
          </a:xfrm>
          <a:prstGeom prst="rect">
            <a:avLst/>
          </a:prstGeom>
          <a:ln w="0">
            <a:noFill/>
          </a:ln>
        </p:spPr>
      </p:pic>
      <p:sp>
        <p:nvSpPr>
          <p:cNvPr id="94" name="WordArt 5"/>
          <p:cNvSpPr txBox="1"/>
          <p:nvPr/>
        </p:nvSpPr>
        <p:spPr>
          <a:xfrm>
            <a:off x="1258920" y="3789360"/>
            <a:ext cx="69850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6840" y="2857680"/>
            <a:ext cx="7340760" cy="32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3300"/>
                </a:solidFill>
                <a:uFillTx/>
                <a:latin typeface="Arial"/>
              </a:rPr>
              <a:t>Тема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«Повторяем фонетику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состав сло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Users\Admin\Desktop\i.jpg"/>
          <p:cNvPicPr/>
          <p:nvPr/>
        </p:nvPicPr>
        <p:blipFill>
          <a:blip r:embed="rId1"/>
          <a:stretch/>
        </p:blipFill>
        <p:spPr>
          <a:xfrm>
            <a:off x="1785960" y="0"/>
            <a:ext cx="6881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лка сушит сыроежки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апкой с ветки рвёт орешки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Admin\Desktop\20ae9e364df346bb49f2539e3d79b5b4_90919.jpg"/>
          <p:cNvPicPr/>
          <p:nvPr/>
        </p:nvPicPr>
        <p:blipFill>
          <a:blip r:embed="rId1"/>
          <a:stretch/>
        </p:blipFill>
        <p:spPr>
          <a:xfrm>
            <a:off x="2014560" y="2286000"/>
            <a:ext cx="61293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01540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 название сыроежки получили, вероятно, потому, что после засолки очень скоро становятся пригодными к употреблению (иногда через сутки). Некоторые виды сыроежек (зеленые, белые и розовые) грибники съедают с солью в свежем виде. Но есть грибы сырыми опасно для жизни и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328572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uroegki_t2"/>
          <p:cNvPicPr/>
          <p:nvPr/>
        </p:nvPicPr>
        <p:blipFill>
          <a:blip r:embed="rId1"/>
          <a:stretch/>
        </p:blipFill>
        <p:spPr>
          <a:xfrm>
            <a:off x="4071960" y="3929040"/>
            <a:ext cx="43578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00"/>
                </a:solidFill>
                <a:latin typeface="Impact"/>
              </a:rPr>
              <a:t>О </a:t>
            </a:r>
            <a:r>
              <a:rPr b="0" lang="ru-RU" sz="5400" spc="-1" strike="noStrike">
                <a:solidFill>
                  <a:srgbClr val="ff3300"/>
                </a:solidFill>
                <a:latin typeface="Impact"/>
              </a:rPr>
              <a:t>Р Е 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орех"/>
          <p:cNvPicPr/>
          <p:nvPr/>
        </p:nvPicPr>
        <p:blipFill>
          <a:blip r:embed="rId1"/>
          <a:stretch/>
        </p:blipFill>
        <p:spPr>
          <a:xfrm>
            <a:off x="468360" y="2276640"/>
            <a:ext cx="3024000" cy="331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дерево орех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4140360" y="1557360"/>
            <a:ext cx="4535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Impact"/>
              </a:rPr>
              <a:t>Разделать под орех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Impact"/>
              </a:rPr>
              <a:t>Не разгрызешь ореха, так и ядра не съеш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Impact"/>
              </a:rPr>
              <a:t>Когда зубов не стало, тогда и орехов принесл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Impact"/>
              </a:rPr>
              <a:t>Крепкий орешек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йди и запиши слово из двух слогов, в котором два одинаковых гласных звука и первый звук – удар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сский ле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обенно красив и печален русский лес в ранние осенние дн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золотом фоне пожелтевшей листвы выделяются яркие пятна раскрашенных осин и бере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По И.Соколову-Микитову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пятна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а т н а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19:36:15Z</dcterms:created>
  <dc:creator>User</dc:creator>
  <dc:description/>
  <dc:language>en-US</dc:language>
  <cp:lastModifiedBy>Admin</cp:lastModifiedBy>
  <dcterms:modified xsi:type="dcterms:W3CDTF">2013-12-17T04:28:43Z</dcterms:modified>
  <cp:revision>52</cp:revision>
  <dc:subject/>
  <dc:title>Тема: Проверяемая и непроверяемая безударная гласная в корне слов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